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3C4-E7B6-4190-9C14-25DC2A2C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ED8-0312-4649-B6BC-204B9BDC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222-F608-49D6-8FC6-ECB171A8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965-1C97-40A7-9C08-225D4B4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E23-BFB1-4CCE-9D6A-75FA3F0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A55-83A3-43DB-8816-21F543E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2C-C19A-46BA-825E-2B77F595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4C2-1CE1-4E7C-8D14-E17F965C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CB1-4B65-4093-91E4-ECAC7559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3FE-BE67-46DD-AFAE-1C83C2F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0D2-3803-4708-9455-7321C3E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1F7-B192-4837-948A-C72346C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C48C-84A5-4F78-8CFA-D00FCD972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167616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element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5 an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6845000">
            <a:off x="-617760" y="244512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Times New Roman"/>
              </a:rPr>
              <a:t>Obbligo scola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52280"/>
            <a:ext cx="3352680" cy="914400"/>
          </a:xfrm>
          <a:prstGeom prst="irregularSeal1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-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52280"/>
            <a:ext cx="3352680" cy="9144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ST-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983000">
            <a:off x="-561600" y="5055480"/>
            <a:ext cx="21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Times New Roman"/>
              </a:rPr>
              <a:t>Obbligo form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1828800" cy="685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3 an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bbligo fino ai 14 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419720"/>
            <a:ext cx="137160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pprendi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4191120"/>
            <a:ext cx="167616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791320"/>
            <a:ext cx="32767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bligo fino a 18 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438280"/>
            <a:ext cx="2438280" cy="91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uola seconda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2 anni di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Obbligo fino ai 15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1371600"/>
            <a:ext cx="1676520" cy="685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clo pri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7 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666880"/>
            <a:ext cx="228600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seconda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uperiore (1 anno di 5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bbligo fino ai 15 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95280"/>
            <a:ext cx="7619760" cy="2514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57400">
            <a:off x="2971440" y="1523880"/>
            <a:ext cx="3276720" cy="91440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Situazione transi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962520"/>
            <a:ext cx="7619760" cy="2361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4191120"/>
            <a:ext cx="190476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uola second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trien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495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934320" y="487692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876920"/>
            <a:ext cx="91440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1371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5880" y="3429000"/>
            <a:ext cx="1067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743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64008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torio Provinciale Istruzione Venezia (OPIV) - COSES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2:24:26Z</dcterms:created>
  <dc:creator>Cristiana</dc:creator>
  <dc:description/>
  <dc:language>en-US</dc:language>
  <cp:lastModifiedBy>Cristiana</cp:lastModifiedBy>
  <cp:lastPrinted>2000-10-24T07:48:34Z</cp:lastPrinted>
  <dcterms:modified xsi:type="dcterms:W3CDTF">2000-10-24T08:14:02Z</dcterms:modified>
  <cp:revision>9</cp:revision>
  <dc:subject/>
  <dc:title>Nessun titolo diapositiva</dc:title>
</cp:coreProperties>
</file>