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909-6692-4387-8C5F-9515732C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CDF-65C7-44F9-A835-99B92D26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979-7034-4EC9-8BF2-FF1327CA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3A2-1EB7-4E01-9223-B6CFCA64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046-F109-4C73-B23E-AF90CED9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D08-3409-4760-87B3-5958659B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D7E-CAA6-440A-A2C7-86EBD2CB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917-F2AD-43E3-88C3-2D2EB25B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951-D9EC-4BA4-9B34-3088A126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B89-C728-45A0-B5ED-984700FA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EC4-FF44-4ECA-8843-28091E16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975-7716-4EDD-80C4-7627066A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C55A-EF95-4DF1-B720-54C68C559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248520"/>
            <a:ext cx="78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Assessorato all’Istruzione della Provincia di Venezia - COSES 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                          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                         OPIVenezia - Marzo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27680" y="35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e82c00"/>
                </a:solidFill>
                <a:latin typeface="Times New Roman"/>
              </a:rPr>
              <a:t>Educazione adulti (E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143000"/>
            <a:ext cx="19051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d1"/>
            </a:solidFill>
            <a:miter/>
          </a:ln>
          <a:effectLst>
            <a:outerShdw dist="153753" dir="2700000" blurRad="0" rotWithShape="0">
              <a:srgbClr val="ecec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stitu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cuola popol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1066680"/>
            <a:ext cx="190476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e6ff"/>
              </a:gs>
            </a:gsLst>
            <a:lin ang="5400000"/>
          </a:gradFill>
          <a:ln w="9360">
            <a:solidFill>
              <a:srgbClr val="d9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L 1599/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 326/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1066680"/>
            <a:ext cx="3733920" cy="533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df1fa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df1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lfabetizzazione contro l’analfabet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ssegnati ai Circoli didatt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905120"/>
            <a:ext cx="19051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d1"/>
            </a:solidFill>
            <a:miter/>
          </a:ln>
          <a:effectLst>
            <a:outerShdw dist="153753" dir="2700000" blurRad="0" rotWithShape="0">
              <a:srgbClr val="ecec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stituzione 150 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828800"/>
            <a:ext cx="190476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e6ff"/>
              </a:gs>
            </a:gsLst>
            <a:lin ang="5400000"/>
          </a:gradFill>
          <a:ln w="9360">
            <a:solidFill>
              <a:srgbClr val="d9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M 131/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1752480"/>
            <a:ext cx="3733920" cy="533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df1fa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df1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orsi di scuola 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ssegnati alle scuole me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819520"/>
            <a:ext cx="19051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d1"/>
            </a:solidFill>
            <a:miter/>
          </a:ln>
          <a:effectLst>
            <a:outerShdw dist="153753" dir="2700000" blurRad="0" rotWithShape="0">
              <a:srgbClr val="ecec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rincipi innov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819520"/>
            <a:ext cx="1904760" cy="53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e6ff"/>
              </a:gs>
            </a:gsLst>
            <a:lin ang="5400000"/>
          </a:gradFill>
          <a:ln w="9360">
            <a:solidFill>
              <a:srgbClr val="d9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M 307 e 400 del 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362320"/>
            <a:ext cx="3809880" cy="1371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df1fa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df1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ntegrazione scuola-istruzione profess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rediti formati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uove istituzioni EDA in aree di disa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iù possibilità carcerari e portatori di handi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pertura agli adulti e non solo giov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orsi non solo finalizzati al titolo di st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886200"/>
            <a:ext cx="19051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d1"/>
            </a:solidFill>
            <a:miter/>
          </a:ln>
          <a:effectLst>
            <a:outerShdw dist="153753" dir="2700000" blurRad="0" rotWithShape="0">
              <a:srgbClr val="ecec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V Conferenz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nternazionale Une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4648320"/>
            <a:ext cx="19051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d1"/>
            </a:solidFill>
            <a:miter/>
          </a:ln>
          <a:effectLst>
            <a:outerShdw dist="153753" dir="2700000" blurRad="0" rotWithShape="0">
              <a:srgbClr val="ecec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stituzione Cent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erritoriali Perman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(CT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5486400"/>
            <a:ext cx="19051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d1"/>
            </a:solidFill>
            <a:miter/>
          </a:ln>
          <a:effectLst>
            <a:outerShdw dist="153753" dir="2700000" blurRad="0" rotWithShape="0">
              <a:srgbClr val="ecec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nferenza Unific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tato-Regioni-E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886200"/>
            <a:ext cx="190476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e6ff"/>
              </a:gs>
            </a:gsLst>
            <a:lin ang="5400000"/>
          </a:gradFill>
          <a:ln w="9360">
            <a:solidFill>
              <a:srgbClr val="d9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uglio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886200"/>
            <a:ext cx="3733920" cy="685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df1fa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df1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inee di indirizzo per gli Stati memb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ducazione adulti è un dirit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’ la chiave per il XXI sec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4648320"/>
            <a:ext cx="1904760" cy="53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e6ff"/>
              </a:gs>
            </a:gsLst>
            <a:lin ang="5400000"/>
          </a:gradFill>
          <a:ln w="9360">
            <a:solidFill>
              <a:srgbClr val="d9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M 455/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648320"/>
            <a:ext cx="3733920" cy="5331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df1fa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df1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Unione in una Istituzione scolastica dell’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ogni ambito territoriale di riferi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5410080"/>
            <a:ext cx="190476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e6ff"/>
              </a:gs>
            </a:gsLst>
            <a:lin ang="5400000"/>
          </a:gradFill>
          <a:ln w="9360">
            <a:solidFill>
              <a:srgbClr val="d9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ovvedimento 2/3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5334120"/>
            <a:ext cx="3733920" cy="761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df1fa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df1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iorganizzazione, decentr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 potenzi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ell’educazione degli adul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45" idx="3"/>
            <a:endCxn id="46" idx="2"/>
          </p:cNvCxnSpPr>
          <p:nvPr/>
        </p:nvCxnSpPr>
        <p:spPr>
          <a:xfrm flipV="1">
            <a:off x="2286000" y="1333440"/>
            <a:ext cx="533880" cy="76680"/>
          </a:xfrm>
          <a:prstGeom prst="curvedConnector3">
            <a:avLst>
              <a:gd name="adj1" fmla="val 4028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4" name=""/>
          <p:cNvSpPr/>
          <p:nvPr/>
        </p:nvSpPr>
        <p:spPr>
          <a:xfrm>
            <a:off x="2325600" y="1940040"/>
            <a:ext cx="463680" cy="230040"/>
          </a:xfrm>
          <a:custGeom>
            <a:avLst/>
            <a:gdLst/>
            <a:ahLst/>
            <a:rect l="l" t="t" r="r" b="b"/>
            <a:pathLst>
              <a:path w="292" h="145">
                <a:moveTo>
                  <a:pt x="0" y="145"/>
                </a:moveTo>
                <a:cubicBezTo>
                  <a:pt x="74" y="94"/>
                  <a:pt x="204" y="0"/>
                  <a:pt x="292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11560" y="3073320"/>
            <a:ext cx="477720" cy="152640"/>
          </a:xfrm>
          <a:custGeom>
            <a:avLst/>
            <a:gdLst/>
            <a:ahLst/>
            <a:rect l="l" t="t" r="r" b="b"/>
            <a:pathLst>
              <a:path w="301" h="96">
                <a:moveTo>
                  <a:pt x="0" y="73"/>
                </a:moveTo>
                <a:cubicBezTo>
                  <a:pt x="73" y="96"/>
                  <a:pt x="155" y="75"/>
                  <a:pt x="228" y="57"/>
                </a:cubicBezTo>
                <a:cubicBezTo>
                  <a:pt x="255" y="19"/>
                  <a:pt x="262" y="20"/>
                  <a:pt x="30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560" y="4064040"/>
            <a:ext cx="477720" cy="68400"/>
          </a:xfrm>
          <a:custGeom>
            <a:avLst/>
            <a:gdLst/>
            <a:ahLst/>
            <a:rect l="l" t="t" r="r" b="b"/>
            <a:pathLst>
              <a:path w="301" h="43">
                <a:moveTo>
                  <a:pt x="0" y="43"/>
                </a:moveTo>
                <a:cubicBezTo>
                  <a:pt x="45" y="29"/>
                  <a:pt x="93" y="27"/>
                  <a:pt x="139" y="19"/>
                </a:cubicBezTo>
                <a:cubicBezTo>
                  <a:pt x="195" y="0"/>
                  <a:pt x="245" y="43"/>
                  <a:pt x="301" y="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560" y="4843440"/>
            <a:ext cx="504720" cy="257040"/>
          </a:xfrm>
          <a:custGeom>
            <a:avLst/>
            <a:gdLst/>
            <a:ahLst/>
            <a:rect l="l" t="t" r="r" b="b"/>
            <a:pathLst>
              <a:path w="318" h="162">
                <a:moveTo>
                  <a:pt x="0" y="162"/>
                </a:moveTo>
                <a:cubicBezTo>
                  <a:pt x="15" y="79"/>
                  <a:pt x="23" y="77"/>
                  <a:pt x="106" y="65"/>
                </a:cubicBezTo>
                <a:cubicBezTo>
                  <a:pt x="114" y="62"/>
                  <a:pt x="122" y="58"/>
                  <a:pt x="131" y="57"/>
                </a:cubicBezTo>
                <a:cubicBezTo>
                  <a:pt x="172" y="52"/>
                  <a:pt x="213" y="57"/>
                  <a:pt x="253" y="48"/>
                </a:cubicBezTo>
                <a:cubicBezTo>
                  <a:pt x="254" y="48"/>
                  <a:pt x="305" y="6"/>
                  <a:pt x="31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560" y="5622840"/>
            <a:ext cx="527040" cy="239760"/>
          </a:xfrm>
          <a:custGeom>
            <a:avLst/>
            <a:gdLst/>
            <a:ahLst/>
            <a:rect l="l" t="t" r="r" b="b"/>
            <a:pathLst>
              <a:path w="332" h="151">
                <a:moveTo>
                  <a:pt x="0" y="151"/>
                </a:moveTo>
                <a:cubicBezTo>
                  <a:pt x="25" y="13"/>
                  <a:pt x="86" y="60"/>
                  <a:pt x="245" y="54"/>
                </a:cubicBezTo>
                <a:cubicBezTo>
                  <a:pt x="253" y="51"/>
                  <a:pt x="262" y="50"/>
                  <a:pt x="269" y="46"/>
                </a:cubicBezTo>
                <a:cubicBezTo>
                  <a:pt x="286" y="36"/>
                  <a:pt x="332" y="0"/>
                  <a:pt x="318" y="13"/>
                </a:cubicBezTo>
                <a:cubicBezTo>
                  <a:pt x="299" y="31"/>
                  <a:pt x="309" y="29"/>
                  <a:pt x="293" y="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65680" y="1287360"/>
            <a:ext cx="249120" cy="146160"/>
          </a:xfrm>
          <a:custGeom>
            <a:avLst/>
            <a:gdLst/>
            <a:ahLst/>
            <a:rect l="l" t="t" r="r" b="b"/>
            <a:pathLst>
              <a:path w="157" h="92">
                <a:moveTo>
                  <a:pt x="0" y="27"/>
                </a:moveTo>
                <a:cubicBezTo>
                  <a:pt x="52" y="18"/>
                  <a:pt x="113" y="0"/>
                  <a:pt x="147" y="51"/>
                </a:cubicBezTo>
                <a:cubicBezTo>
                  <a:pt x="157" y="81"/>
                  <a:pt x="155" y="67"/>
                  <a:pt x="155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14920" y="1969920"/>
            <a:ext cx="271440" cy="173160"/>
          </a:xfrm>
          <a:custGeom>
            <a:avLst/>
            <a:gdLst/>
            <a:ahLst/>
            <a:rect l="l" t="t" r="r" b="b"/>
            <a:pathLst>
              <a:path w="171" h="109">
                <a:moveTo>
                  <a:pt x="0" y="109"/>
                </a:moveTo>
                <a:cubicBezTo>
                  <a:pt x="40" y="82"/>
                  <a:pt x="71" y="45"/>
                  <a:pt x="106" y="12"/>
                </a:cubicBezTo>
                <a:cubicBezTo>
                  <a:pt x="119" y="0"/>
                  <a:pt x="160" y="4"/>
                  <a:pt x="171" y="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7520" y="3008160"/>
            <a:ext cx="284040" cy="192240"/>
          </a:xfrm>
          <a:custGeom>
            <a:avLst/>
            <a:gdLst/>
            <a:ahLst/>
            <a:rect l="l" t="t" r="r" b="b"/>
            <a:pathLst>
              <a:path w="179" h="121">
                <a:moveTo>
                  <a:pt x="0" y="0"/>
                </a:moveTo>
                <a:cubicBezTo>
                  <a:pt x="33" y="17"/>
                  <a:pt x="52" y="26"/>
                  <a:pt x="73" y="57"/>
                </a:cubicBezTo>
                <a:cubicBezTo>
                  <a:pt x="93" y="121"/>
                  <a:pt x="127" y="114"/>
                  <a:pt x="179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7520" y="4106880"/>
            <a:ext cx="284040" cy="155520"/>
          </a:xfrm>
          <a:custGeom>
            <a:avLst/>
            <a:gdLst/>
            <a:ahLst/>
            <a:rect l="l" t="t" r="r" b="b"/>
            <a:pathLst>
              <a:path w="179" h="98">
                <a:moveTo>
                  <a:pt x="0" y="0"/>
                </a:moveTo>
                <a:cubicBezTo>
                  <a:pt x="24" y="16"/>
                  <a:pt x="27" y="14"/>
                  <a:pt x="41" y="41"/>
                </a:cubicBezTo>
                <a:cubicBezTo>
                  <a:pt x="45" y="49"/>
                  <a:pt x="44" y="58"/>
                  <a:pt x="49" y="65"/>
                </a:cubicBezTo>
                <a:cubicBezTo>
                  <a:pt x="60" y="78"/>
                  <a:pt x="77" y="85"/>
                  <a:pt x="89" y="98"/>
                </a:cubicBezTo>
                <a:cubicBezTo>
                  <a:pt x="146" y="85"/>
                  <a:pt x="116" y="89"/>
                  <a:pt x="179" y="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53080" y="5681520"/>
            <a:ext cx="245880" cy="152640"/>
          </a:xfrm>
          <a:custGeom>
            <a:avLst/>
            <a:gdLst/>
            <a:ahLst/>
            <a:rect l="l" t="t" r="r" b="b"/>
            <a:pathLst>
              <a:path w="155" h="96">
                <a:moveTo>
                  <a:pt x="0" y="0"/>
                </a:moveTo>
                <a:cubicBezTo>
                  <a:pt x="5" y="16"/>
                  <a:pt x="16" y="73"/>
                  <a:pt x="25" y="82"/>
                </a:cubicBezTo>
                <a:cubicBezTo>
                  <a:pt x="31" y="88"/>
                  <a:pt x="41" y="87"/>
                  <a:pt x="49" y="90"/>
                </a:cubicBezTo>
                <a:cubicBezTo>
                  <a:pt x="76" y="87"/>
                  <a:pt x="107" y="96"/>
                  <a:pt x="130" y="82"/>
                </a:cubicBezTo>
                <a:cubicBezTo>
                  <a:pt x="145" y="73"/>
                  <a:pt x="141" y="49"/>
                  <a:pt x="147" y="33"/>
                </a:cubicBezTo>
                <a:cubicBezTo>
                  <a:pt x="150" y="25"/>
                  <a:pt x="155" y="9"/>
                  <a:pt x="155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02320" y="4786200"/>
            <a:ext cx="296640" cy="223920"/>
          </a:xfrm>
          <a:custGeom>
            <a:avLst/>
            <a:gdLst/>
            <a:ahLst/>
            <a:rect l="l" t="t" r="r" b="b"/>
            <a:pathLst>
              <a:path w="187" h="141">
                <a:moveTo>
                  <a:pt x="0" y="141"/>
                </a:moveTo>
                <a:cubicBezTo>
                  <a:pt x="52" y="135"/>
                  <a:pt x="73" y="135"/>
                  <a:pt x="114" y="109"/>
                </a:cubicBezTo>
                <a:cubicBezTo>
                  <a:pt x="128" y="67"/>
                  <a:pt x="128" y="43"/>
                  <a:pt x="171" y="27"/>
                </a:cubicBezTo>
                <a:cubicBezTo>
                  <a:pt x="180" y="0"/>
                  <a:pt x="171" y="3"/>
                  <a:pt x="187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Centri Territoriali Permanenti (CTP)</a:t>
            </a:r>
            <a:br>
              <a:rPr sz="2800"/>
            </a:b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OM 455/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6248520"/>
            <a:ext cx="78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Assessorato all’Istruzione della Provincia di Venezia - COSES 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                          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                         OPIVenezia - Marzo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1600200"/>
            <a:ext cx="182880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00"/>
                </a:solidFill>
                <a:latin typeface="Times New Roman"/>
              </a:rPr>
              <a:t>Comitato tecnico naz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00"/>
                </a:solidFill>
                <a:latin typeface="Times New Roman"/>
              </a:rPr>
              <a:t>M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Indirizzo, monitoraggio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assistenza, verif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3809880"/>
            <a:ext cx="2819520" cy="152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00"/>
                </a:solidFill>
                <a:latin typeface="Times New Roman"/>
              </a:rPr>
              <a:t>Comitato provinciale 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(Provveditore -Presidente-rappresentanti istruzione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EELL, soggetti pubblici e privati che operan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per l’incontro domanda-offerta di  formazion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analizzare bisogni e domande potenzi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progettare e coordinare iniziative, pubblicizza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criteri attestati, monitoraggio, valuta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914400"/>
            <a:ext cx="883944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Rappresentano l’insieme dei servizi e attività EDA per il distretto scolast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Riferimento amministrativo e didattico = istituzione scolastica dell’obbli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Hanno raccolto e integrato le precedenti esperienze dei corsi di alfabetizzazione e dei corsi per lavorat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828800"/>
            <a:ext cx="312444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Attività di accoglienz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ascolto e orien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Servizi offer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alfabetizzazione prim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licenza 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corsi monografici e laborato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apprendimento lingua e linguag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48640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Times New Roman"/>
              </a:rPr>
              <a:t>Patto formativo individu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Libretto personale</a:t>
            </a:r>
            <a:r>
              <a:rPr b="0" lang="it-IT" sz="1200" spc="-1" strike="noStrike">
                <a:solidFill>
                  <a:srgbClr val="ff3300"/>
                </a:solidFill>
                <a:latin typeface="Times New Roman"/>
              </a:rPr>
              <a:t> (crediti, attività svolte, competenze/attestati acquisiti, dichiarazione di frequenz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Accesso</a:t>
            </a:r>
            <a:r>
              <a:rPr b="0" lang="it-IT" sz="1200" spc="-1" strike="noStrike">
                <a:solidFill>
                  <a:srgbClr val="ff3300"/>
                </a:solidFill>
                <a:latin typeface="Times New Roman"/>
              </a:rPr>
              <a:t> gratuito e per tutti coloro che hanno compiuto i 15 anni di e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352680"/>
            <a:ext cx="2971800" cy="1295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Certificazion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licenza element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licenza 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attestato attività professionalizz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attestato attività di riqualificazione profession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attestato attività culturale gener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certificazione di frequen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2514600"/>
            <a:ext cx="441936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Times New Roman"/>
              </a:rPr>
              <a:t>Coordinatore: </a:t>
            </a: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dirigente istituto sede del C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Times New Roman"/>
              </a:rPr>
              <a:t>Collaboratori</a:t>
            </a: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: individuati dal coordinat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Times New Roman"/>
              </a:rPr>
              <a:t>Organico di base</a:t>
            </a: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: 5 insegnanti delle medie e 3 delle elementa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(possibile incremento attuato dal Provvedito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Times New Roman"/>
              </a:rPr>
              <a:t>Altro organico</a:t>
            </a: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: operatori  dati da soggetti pubblici; convenzioni con altri istitut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assunti con contratto d’op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Times New Roman"/>
              </a:rPr>
              <a:t>Organi collegiali</a:t>
            </a: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: Assemblea frequentanti; Coordinamento del personale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Consiglio di Istituto o Circolo della istituzione presso cui ha sede il C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4572000"/>
            <a:ext cx="3581280" cy="99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Durata cors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licenza elementare e media corsi annuali; circa 500 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altri corsi: modulari su 20, 40, 60, 80 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1905120"/>
            <a:ext cx="3048120" cy="10666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n provincia sono attivi 6 C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3809880"/>
            <a:ext cx="3429000" cy="175284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ovincia VE 1999-200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lfabetizzazione: 16 corsi; 314 frequenta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terza media: 20 corsi; 310 frequenta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rsi brevi: 157 con 2.120 frequenta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Conferenza Unificata Stato-Regioni-Enti Locali</a:t>
            </a:r>
            <a:br>
              <a:rPr sz="2800"/>
            </a:b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Provvedimento 2/3/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6248520"/>
            <a:ext cx="78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Assessorato all’Istruzione della Provincia di Venezia - COSES 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                          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                         OPIVenezia - Marzo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676520"/>
            <a:ext cx="58672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6600"/>
                </a:solidFill>
                <a:uFillTx/>
                <a:latin typeface="Times New Roman"/>
              </a:rPr>
              <a:t>Comitato nazionale integrato</a:t>
            </a:r>
            <a:r>
              <a:rPr b="1" lang="it-IT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it-IT" sz="1100" spc="-1" strike="noStrike">
                <a:solidFill>
                  <a:srgbClr val="006600"/>
                </a:solidFill>
                <a:latin typeface="Times New Roman"/>
              </a:rPr>
              <a:t>(Rappresentanti Ministeri, E.L., Regioni, parti sociali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Raccordo con il comitato nazionale IFT; Indirizzi generali; Risorse attivabili e criteri di  distribu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Linee guida per standard: monitoraggi, valutazione, certificazione, credi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3505320"/>
            <a:ext cx="632448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it-IT" sz="1200" spc="-1" strike="noStrike" u="sng">
                <a:solidFill>
                  <a:srgbClr val="006600"/>
                </a:solidFill>
                <a:uFillTx/>
                <a:latin typeface="Times New Roman"/>
              </a:rPr>
              <a:t>Comitati locali</a:t>
            </a:r>
            <a:r>
              <a:rPr b="1" lang="it-IT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(Presieduti da rappresentanti dei comuni; Rappresentanti Uffici scolastici territoriali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provincia, comuni, parti sociali, Agenzie formative, Consiglio scolastico locale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6600"/>
                </a:solidFill>
                <a:latin typeface="Times New Roman"/>
              </a:rPr>
              <a:t>Sede privilegiata della programmazione concertata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Promuove EDA; programma attività in base ai fabbisogni locali (seguendo le linee regionali); definis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e programma uso risorse condivise; elabora progetti di area; propone calendario EDA e istituzion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di nuovi CT e loro dislocazione; assicura il raccordo con politiche occupazionali e i servizi per l’impieg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914400"/>
            <a:ext cx="883944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Riorganizzazione e potenziamento dell’educazione degli adulti  =&gt; diritto al sap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Intreccio continuo tra periodo di studio/formazione e periodo di lavoro (</a:t>
            </a:r>
            <a:r>
              <a:rPr b="1" i="1" lang="it-IT" sz="1200" spc="-1" strike="noStrike">
                <a:solidFill>
                  <a:srgbClr val="ff3300"/>
                </a:solidFill>
                <a:latin typeface="Times New Roman"/>
              </a:rPr>
              <a:t>life long learning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Raccordo maggiore e integrazione tra CT, scuole superiori serali e tutti gli altri agenti formativi rivolti agli adul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1905120"/>
            <a:ext cx="3124440" cy="1676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Obiettiv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Nuovi alfabeti, nuovi saperi,  nuovi analfabe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recupero drop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accoglienza immigr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rimotivazione culturale e soc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qualificazione e riqualificazione profession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percorsi modulari e flessibi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3352680"/>
            <a:ext cx="297180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Agenti formativ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sistema scolast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sistema regionale della formazione profession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servizi per l’impie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reti civi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infrastrutture cultur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impr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associazio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universit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438280"/>
            <a:ext cx="5943600" cy="121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6600"/>
                </a:solidFill>
                <a:uFillTx/>
                <a:latin typeface="Times New Roman"/>
              </a:rPr>
              <a:t>Comitato regionale</a:t>
            </a:r>
            <a:r>
              <a:rPr b="1" lang="it-IT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(Assessori regionali preposti, E.L., Dipartimento regionale scolastico, parti sociali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Funzioni di concertazione per: programmazione, promozione, monitoraggio e valutazione E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Individua gli </a:t>
            </a:r>
            <a:r>
              <a:rPr b="1" lang="it-IT" sz="1100" spc="-1" strike="noStrike">
                <a:solidFill>
                  <a:srgbClr val="006600"/>
                </a:solidFill>
                <a:latin typeface="Times New Roman"/>
              </a:rPr>
              <a:t>interventi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; definisce i</a:t>
            </a:r>
            <a:r>
              <a:rPr b="1" lang="it-IT" sz="1100" spc="-1" strike="noStrike">
                <a:solidFill>
                  <a:srgbClr val="006600"/>
                </a:solidFill>
                <a:latin typeface="Times New Roman"/>
              </a:rPr>
              <a:t> criteri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 per la realizzazione sulla base dei fabbisogni;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definisce le </a:t>
            </a:r>
            <a:r>
              <a:rPr b="1" lang="it-IT" sz="1100" spc="-1" strike="noStrike">
                <a:solidFill>
                  <a:srgbClr val="006600"/>
                </a:solidFill>
                <a:latin typeface="Times New Roman"/>
              </a:rPr>
              <a:t>risorse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; definisce i criteri e le modalità di monitoraggio e valutazione;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raccordo piani EDA con  le politiche di sviluppo ed occupazionali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Individua gli </a:t>
            </a:r>
            <a:r>
              <a:rPr b="1" lang="it-IT" sz="1100" spc="-1" strike="noStrike">
                <a:solidFill>
                  <a:srgbClr val="006600"/>
                </a:solidFill>
                <a:latin typeface="Times New Roman"/>
              </a:rPr>
              <a:t>ambiti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 di riferimento territoriale per i Comitati locali e la dislocazione dei 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5105520"/>
            <a:ext cx="373392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6600"/>
                </a:solidFill>
                <a:uFillTx/>
                <a:latin typeface="Times New Roman"/>
              </a:rPr>
              <a:t>La Provincia</a:t>
            </a:r>
            <a:r>
              <a:rPr b="1" lang="it-IT" sz="12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concorre con la regione alla programmazione generale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linee generali di programma EDA per i territori del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provincia sulla base delle risor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programma servizi informativi e pubblicitari sovracomunali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collabora al monitoraggio del sistem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4800600"/>
            <a:ext cx="518184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6600"/>
                </a:solidFill>
                <a:uFillTx/>
                <a:latin typeface="Times New Roman"/>
              </a:rPr>
              <a:t>I Comuni e le comunità montane</a:t>
            </a:r>
            <a:r>
              <a:rPr b="1" lang="it-IT" sz="12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concorrono con regione e provincia alla programmazione; provvedono 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monitoraggio dei fabbisogni; d’intesa con i Comitati locali, programmano l’us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condiviso delle risorse e promuovono le iniziative EDA; concorrono alla definizione dei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progetti pilota in base a priorità e vocazioni del territorio; promuovono realizzazione 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coordinamento delle opportunità (funzionamento integrato); organizzano iniziat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per informazione e orientamento utenti; istituiscono i Comitati local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0:50:49Z</dcterms:created>
  <dc:creator>Cristiana</dc:creator>
  <dc:description/>
  <dc:language>en-US</dc:language>
  <cp:lastModifiedBy>Cristiana</cp:lastModifiedBy>
  <cp:lastPrinted>2001-03-12T11:07:46Z</cp:lastPrinted>
  <dcterms:modified xsi:type="dcterms:W3CDTF">2001-03-12T11:15:12Z</dcterms:modified>
  <cp:revision>57</cp:revision>
  <dc:subject/>
  <dc:title>Nessun titolo diapositiva</dc:title>
</cp:coreProperties>
</file>